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44E-AF87-42DD-BC10-AF787FB8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47C-29F9-4834-AA03-4AC7621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009-5025-4DF1-98C2-D741A9F0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FBF-230B-42B2-8EC6-CC3CD45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F20-339B-4D81-B913-D377F9E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83B-40E2-4751-964D-1BE51E82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E49-1D1B-4FE6-88CE-1132F593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046-8175-441E-A90F-F9FFB78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872-9964-4A56-9950-051EB946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E12-7220-45A1-AF45-E3D1B74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8F0-6D97-4205-8516-09B673D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31C-86AF-40F8-9582-8432D05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61BD-DC35-4E99-8FCA-4174C77C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1.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ordinat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0080" y="1617840"/>
            <a:ext cx="8943840" cy="41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ormed by the intersection of two numbe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4382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horizontal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895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vertical numbe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4434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4 areas divided by the x and y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900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here the axes intersect on the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41972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 pair of numbers that gives the coordinates and location of a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4952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 that shows the position left or right of the 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4100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 that shows the position above or below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199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Coordinate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234200" cy="5445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2485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676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981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29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876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5  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5320"/>
            <a:ext cx="8915400" cy="2803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33720" y="1371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         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9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81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943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1540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7652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581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329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914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2, -3)     (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V,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2406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5791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22:43Z</dcterms:created>
  <dc:creator>Susannah Graham</dc:creator>
  <dc:description/>
  <dc:language>en-US</dc:language>
  <cp:lastModifiedBy>Graham</cp:lastModifiedBy>
  <dcterms:modified xsi:type="dcterms:W3CDTF">2011-08-18T12:59:51Z</dcterms:modified>
  <cp:revision>4</cp:revision>
  <dc:subject/>
  <dc:title>Lesson 1.10 The Coordinate Plane</dc:title>
</cp:coreProperties>
</file>